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3685-B65D-404C-B1CF-0B48ACADE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FC20-2778-4AB9-8DFE-1E2E113CB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EBD2-1E9E-472A-9109-BBF7C96C3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6B86-AFED-45A4-A0C3-89DE2F2DB9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BB2E-B781-4815-8D05-B46132A372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00F1-0259-452B-B4B2-38F75CE23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7357-9EB3-4C14-AB20-BC4489AF5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71DD-CBAA-4D99-9711-4F7149BE9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E97C-F90E-4AB8-94E2-48D261AD0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69EA-8AFD-4ED4-A6A9-290AA33E3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1DD9-3C4C-4526-A9C2-701043CF9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C43B-3A70-4D24-A1EE-DF9E60E7A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072B-0116-476D-BB12-B5C52F50B7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182D-4242-43E2-9DBB-1E3D65C684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b42478"/>
                </a:solidFill>
                <a:latin typeface="Arial"/>
              </a:rPr>
              <a:t>Balancing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cchaput\Local Settings\Temporary Internet Files\Content.IE5\7XQV01E3\MC900441717[1].png"/>
          <p:cNvPicPr/>
          <p:nvPr/>
        </p:nvPicPr>
        <p:blipFill>
          <a:blip r:embed="rId3"/>
          <a:stretch/>
        </p:blipFill>
        <p:spPr>
          <a:xfrm>
            <a:off x="0" y="2286000"/>
            <a:ext cx="2133720" cy="2743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3886200" y="45720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396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-4 Breakout 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e Fruity Set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groups of 4 (mixed grade), work together to solve the following problem. (you may use materials/manipulati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rd your solution on chart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you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167E-A80E-4896-B7A3-641BB7501F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:\Users\Ian\AppData\Local\Microsoft\Windows\Temporary Internet Files\Content.IE5\9WR4CL09\MC900413494[1].wmf"/>
          <p:cNvPicPr/>
          <p:nvPr/>
        </p:nvPicPr>
        <p:blipFill>
          <a:blip r:embed="rId1"/>
          <a:stretch/>
        </p:blipFill>
        <p:spPr>
          <a:xfrm>
            <a:off x="7010280" y="4724280"/>
            <a:ext cx="1905120" cy="19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e Fruity Set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901800"/>
            <a:ext cx="8458200" cy="4736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basket of fruit, containing mangos, blueberries, apples and cherries was delivered to the pa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king took one  sixth of all the fr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From what was lef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the queen took one fifth of the fr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From what was lef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the princess took one fourth of the fr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From what was lef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the prince took one third of the fruit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From what was lef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the duchess took one half of the fruit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is left only 2 blueberries and 1 mango in the bowl for the serv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many pieces of fruit were originally in the bas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Users\Ian\AppData\Local\Microsoft\Windows\Temporary Internet Files\Content.IE5\9WR4CL09\MC900413494[1].wmf"/>
          <p:cNvPicPr/>
          <p:nvPr/>
        </p:nvPicPr>
        <p:blipFill>
          <a:blip r:embed="rId1"/>
          <a:stretch/>
        </p:blipFill>
        <p:spPr>
          <a:xfrm>
            <a:off x="7662960" y="5410080"/>
            <a:ext cx="13287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the big ideas and misconceptions about fractions that this problem may address/exp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these on stickies and post them on the learning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8230-9683-4733-A7D7-53E5F72697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uess and Che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99036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ick a multiple of 6  - let’s say 6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e sixth of 60 is 10 which leaves 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e fifth of 50 is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e fourth of 40 is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e third of 30 is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e half of 20 is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10 left over is too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y a lower multiple of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049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raw a Diagra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89" name="Picture 3" descr="MangoChart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04812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14"/>
          <p:cNvGrpSpPr/>
          <p:nvPr/>
        </p:nvGrpSpPr>
        <p:grpSpPr>
          <a:xfrm>
            <a:off x="76320" y="1295280"/>
            <a:ext cx="9067680" cy="946440"/>
            <a:chOff x="76320" y="1295280"/>
            <a:chExt cx="9067680" cy="946440"/>
          </a:xfrm>
        </p:grpSpPr>
        <p:sp>
          <p:nvSpPr>
            <p:cNvPr id="91" name="TextBox 7"/>
            <p:cNvSpPr/>
            <p:nvPr/>
          </p:nvSpPr>
          <p:spPr>
            <a:xfrm>
              <a:off x="76320" y="1295280"/>
              <a:ext cx="1447560" cy="94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King removes one sixth of  fru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8"/>
            <p:cNvSpPr/>
            <p:nvPr/>
          </p:nvSpPr>
          <p:spPr>
            <a:xfrm>
              <a:off x="1523880" y="1295280"/>
              <a:ext cx="1523880" cy="94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Queen removes one fifth of remain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9"/>
            <p:cNvSpPr/>
            <p:nvPr/>
          </p:nvSpPr>
          <p:spPr>
            <a:xfrm>
              <a:off x="3048120" y="1295280"/>
              <a:ext cx="1523880" cy="94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Princess  removes one fourth of remain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11"/>
            <p:cNvSpPr/>
            <p:nvPr/>
          </p:nvSpPr>
          <p:spPr>
            <a:xfrm>
              <a:off x="4572000" y="1295280"/>
              <a:ext cx="1523880" cy="94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Prince    removes one third of remain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2"/>
            <p:cNvSpPr/>
            <p:nvPr/>
          </p:nvSpPr>
          <p:spPr>
            <a:xfrm>
              <a:off x="6096240" y="1295280"/>
              <a:ext cx="1523880" cy="94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Duchess removes one half  of remain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3"/>
            <p:cNvSpPr/>
            <p:nvPr/>
          </p:nvSpPr>
          <p:spPr>
            <a:xfrm>
              <a:off x="7620120" y="1295280"/>
              <a:ext cx="1523880" cy="94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2 blueberries and a mango le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487656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nother Diagra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417680"/>
            <a:ext cx="9372600" cy="868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King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        Queen        Princess           Prince       Duchess      Serv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6"/>
          <p:cNvGrpSpPr/>
          <p:nvPr/>
        </p:nvGrpSpPr>
        <p:grpSpPr>
          <a:xfrm>
            <a:off x="338040" y="1905120"/>
            <a:ext cx="8577360" cy="668160"/>
            <a:chOff x="338040" y="1905120"/>
            <a:chExt cx="8577360" cy="668160"/>
          </a:xfrm>
        </p:grpSpPr>
        <p:sp>
          <p:nvSpPr>
            <p:cNvPr id="100" name="Oval 4"/>
            <p:cNvSpPr/>
            <p:nvPr/>
          </p:nvSpPr>
          <p:spPr>
            <a:xfrm>
              <a:off x="338040" y="1905120"/>
              <a:ext cx="764280" cy="66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5"/>
            <p:cNvSpPr/>
            <p:nvPr/>
          </p:nvSpPr>
          <p:spPr>
            <a:xfrm>
              <a:off x="1781640" y="1905120"/>
              <a:ext cx="764280" cy="66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"/>
            <p:cNvSpPr/>
            <p:nvPr/>
          </p:nvSpPr>
          <p:spPr>
            <a:xfrm>
              <a:off x="3395160" y="1905120"/>
              <a:ext cx="764280" cy="66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7"/>
            <p:cNvSpPr/>
            <p:nvPr/>
          </p:nvSpPr>
          <p:spPr>
            <a:xfrm>
              <a:off x="5178600" y="1905120"/>
              <a:ext cx="764280" cy="66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8"/>
            <p:cNvSpPr/>
            <p:nvPr/>
          </p:nvSpPr>
          <p:spPr>
            <a:xfrm>
              <a:off x="6622560" y="1905120"/>
              <a:ext cx="764280" cy="66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9"/>
            <p:cNvSpPr/>
            <p:nvPr/>
          </p:nvSpPr>
          <p:spPr>
            <a:xfrm>
              <a:off x="8151120" y="1905120"/>
              <a:ext cx="764280" cy="66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0"/>
            <p:cNvSpPr/>
            <p:nvPr/>
          </p:nvSpPr>
          <p:spPr>
            <a:xfrm>
              <a:off x="5348520" y="2052720"/>
              <a:ext cx="59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6792480" y="2052720"/>
              <a:ext cx="59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3565080" y="2052720"/>
              <a:ext cx="59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3"/>
            <p:cNvSpPr/>
            <p:nvPr/>
          </p:nvSpPr>
          <p:spPr>
            <a:xfrm>
              <a:off x="1951560" y="2052720"/>
              <a:ext cx="59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4"/>
            <p:cNvSpPr/>
            <p:nvPr/>
          </p:nvSpPr>
          <p:spPr>
            <a:xfrm>
              <a:off x="507600" y="2052720"/>
              <a:ext cx="59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5"/>
            <p:cNvSpPr/>
            <p:nvPr/>
          </p:nvSpPr>
          <p:spPr>
            <a:xfrm>
              <a:off x="8321040" y="2052720"/>
              <a:ext cx="59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6"/>
          <p:cNvSpPr/>
          <p:nvPr/>
        </p:nvSpPr>
        <p:spPr>
          <a:xfrm>
            <a:off x="1219320" y="30481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3 + 3 + 3 + 3 + 3 + 3 =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orking Backward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rvant receives 3 pie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uches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took one half)  so 3 is half of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ince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took one third) so 6 is two thirds of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incess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took one fourth)  so 9 is three fourths of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Queen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took one fifth) so 12 is four fifths of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ing   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took one sixth)  so 1 is five sixxths of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IMG00017-20111112-1745"/>
          <p:cNvPicPr/>
          <p:nvPr/>
        </p:nvPicPr>
        <p:blipFill>
          <a:blip r:embed="rId1"/>
          <a:srcRect l="4167" t="0" r="26667" b="16668"/>
          <a:stretch/>
        </p:blipFill>
        <p:spPr>
          <a:xfrm>
            <a:off x="2514600" y="609480"/>
            <a:ext cx="6629400" cy="5989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 rot="16200000">
            <a:off x="647280" y="-1104840"/>
            <a:ext cx="2590920" cy="3733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 anchorCtr="1" vert="eaVer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lgebraic Solu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4800600" cy="1128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inding a Patter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Start with 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e sixth of 24 equals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e fifth of 20 equals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e fourth of 16 equals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hoose a lower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e sixth of 18 equals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e fifth of 15 equals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 blueberries is what was left 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6 people times 3 equals 18 pieces of fr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9284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1171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b5ca9"/>
                </a:solidFill>
                <a:latin typeface="Arial"/>
              </a:rPr>
              <a:t>Myth: fractional parts of an area need to look exactly the same (size and shape)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BAC6-E9CA-4A1A-9C1F-73EBB56932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990720" y="330660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6120" indent="-19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-organize into homogeneous grade groups of 4 to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6120" indent="-193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 the following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articipant Learning Goals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352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nts wil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vestigate portfolio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epen their understanding of Balance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come aware of important understandings and misconceptions and how to assess for understanding in the learning of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Users\Ian\AppData\Local\Microsoft\Windows\Temporary Internet Files\Content.IE5\9WR4CL09\MP900423113[1].jpg"/>
          <p:cNvPicPr/>
          <p:nvPr/>
        </p:nvPicPr>
        <p:blipFill>
          <a:blip r:embed="rId1"/>
          <a:stretch/>
        </p:blipFill>
        <p:spPr>
          <a:xfrm>
            <a:off x="6629400" y="45720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1"/>
          <a:srcRect l="8670" t="864" r="6064" b="2754"/>
          <a:stretch/>
        </p:blipFill>
        <p:spPr>
          <a:xfrm rot="169800">
            <a:off x="878040" y="1374840"/>
            <a:ext cx="6948360" cy="4170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Is one fourth of the square in the picture shaded?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39A5-BB72-451F-AE8B-C421874D12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5713920" y="5938920"/>
            <a:ext cx="32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P61 A Focus on Fra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ria’s Response </a:t>
            </a:r>
            <a:r>
              <a:rPr b="0" lang="en-CA" sz="3200" spc="-1" strike="noStrike" baseline="-25000">
                <a:solidFill>
                  <a:srgbClr val="2b5ca9"/>
                </a:solidFill>
                <a:latin typeface="Arial"/>
              </a:rPr>
              <a:t>p62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0790-6A84-4872-90F6-29F9347CC4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6197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illiam’s Response </a:t>
            </a:r>
            <a:r>
              <a:rPr b="0" lang="en-CA" sz="4400" spc="-1" strike="noStrike" baseline="-25000">
                <a:solidFill>
                  <a:srgbClr val="2b5ca9"/>
                </a:solidFill>
                <a:latin typeface="Arial"/>
              </a:rPr>
              <a:t>p6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05AC-CF8E-474F-81D9-850067F3A1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1326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lace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 you know about each student‘s understanding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you unsure of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would you ask each nex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1EFC-E8D1-43A7-B045-B082711AB0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4495680" cy="1128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roup Place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9772-CFE1-4D46-9DAA-F1135C53DD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8"/>
          <p:cNvGrpSpPr/>
          <p:nvPr/>
        </p:nvGrpSpPr>
        <p:grpSpPr>
          <a:xfrm>
            <a:off x="152280" y="1219320"/>
            <a:ext cx="8991360" cy="4190760"/>
            <a:chOff x="152280" y="1219320"/>
            <a:chExt cx="8991360" cy="4190760"/>
          </a:xfrm>
        </p:grpSpPr>
        <p:grpSp>
          <p:nvGrpSpPr>
            <p:cNvPr id="138" name="Group 20"/>
            <p:cNvGrpSpPr/>
            <p:nvPr/>
          </p:nvGrpSpPr>
          <p:grpSpPr>
            <a:xfrm>
              <a:off x="152280" y="1219320"/>
              <a:ext cx="8991360" cy="4190760"/>
              <a:chOff x="152280" y="1219320"/>
              <a:chExt cx="8991360" cy="4190760"/>
            </a:xfrm>
          </p:grpSpPr>
          <p:sp>
            <p:nvSpPr>
              <p:cNvPr id="139" name="Straight Connector 6"/>
              <p:cNvSpPr/>
              <p:nvPr/>
            </p:nvSpPr>
            <p:spPr>
              <a:xfrm>
                <a:off x="533160" y="1295280"/>
                <a:ext cx="8229960" cy="403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19"/>
              <p:cNvGrpSpPr/>
              <p:nvPr/>
            </p:nvGrpSpPr>
            <p:grpSpPr>
              <a:xfrm>
                <a:off x="152280" y="1219320"/>
                <a:ext cx="8991360" cy="4190760"/>
                <a:chOff x="152280" y="1219320"/>
                <a:chExt cx="8991360" cy="4190760"/>
              </a:xfrm>
            </p:grpSpPr>
            <p:sp>
              <p:nvSpPr>
                <p:cNvPr id="141" name="Rectangle 4"/>
                <p:cNvSpPr/>
                <p:nvPr/>
              </p:nvSpPr>
              <p:spPr>
                <a:xfrm>
                  <a:off x="533160" y="1295280"/>
                  <a:ext cx="8229960" cy="40384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Straight Connector 9"/>
                <p:cNvSpPr/>
                <p:nvPr/>
              </p:nvSpPr>
              <p:spPr>
                <a:xfrm flipV="1">
                  <a:off x="533160" y="1295280"/>
                  <a:ext cx="8229960" cy="403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Title 1"/>
                <p:cNvSpPr/>
                <p:nvPr/>
              </p:nvSpPr>
              <p:spPr>
                <a:xfrm>
                  <a:off x="2133360" y="1219320"/>
                  <a:ext cx="55627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0760" rIns="90000" tIns="50760" bIns="50760" anchor="ctr">
                  <a:noAutofit/>
                </a:bodyPr>
                <a:p>
                  <a:pPr marL="39600" indent="-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400" spc="-1" strike="noStrike">
                      <a:solidFill>
                        <a:srgbClr val="2b5ca9"/>
                      </a:solidFill>
                      <a:latin typeface="Arial"/>
                    </a:rPr>
                    <a:t>What I am sure about  Maria`s understanding: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itle 1"/>
                <p:cNvSpPr/>
                <p:nvPr/>
              </p:nvSpPr>
              <p:spPr>
                <a:xfrm rot="5400000">
                  <a:off x="7017120" y="2978640"/>
                  <a:ext cx="31240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0760" rIns="90000" tIns="50760" bIns="50760" anchor="ctr">
                  <a:noAutofit/>
                </a:bodyPr>
                <a:p>
                  <a:pPr marL="39600" indent="-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400" spc="-1" strike="noStrike">
                      <a:solidFill>
                        <a:srgbClr val="2b5ca9"/>
                      </a:solidFill>
                      <a:latin typeface="Arial"/>
                    </a:rPr>
                    <a:t>What I would ask  Maria next: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Title 1"/>
                <p:cNvSpPr/>
                <p:nvPr/>
              </p:nvSpPr>
              <p:spPr>
                <a:xfrm rot="10800000">
                  <a:off x="1066680" y="4952880"/>
                  <a:ext cx="55627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0760" rIns="90000" tIns="50760" bIns="50760" anchor="ctr">
                  <a:noAutofit/>
                </a:bodyPr>
                <a:p>
                  <a:pPr marL="39600" indent="-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400" spc="-1" strike="noStrike">
                      <a:solidFill>
                        <a:srgbClr val="2b5ca9"/>
                      </a:solidFill>
                      <a:latin typeface="Arial"/>
                    </a:rPr>
                    <a:t>What I am sure about  William`s understanding: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Title 1"/>
                <p:cNvSpPr/>
                <p:nvPr/>
              </p:nvSpPr>
              <p:spPr>
                <a:xfrm rot="16200000">
                  <a:off x="-845280" y="2445480"/>
                  <a:ext cx="3124080" cy="11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0760" rIns="90000" tIns="50760" bIns="50760" anchor="ctr">
                  <a:noAutofit/>
                </a:bodyPr>
                <a:p>
                  <a:pPr marL="39600" indent="-3960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400" spc="-1" strike="noStrike">
                      <a:solidFill>
                        <a:srgbClr val="2b5ca9"/>
                      </a:solidFill>
                      <a:latin typeface="Arial"/>
                    </a:rPr>
                    <a:t>What I would ask  William next: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Oval 12"/>
            <p:cNvSpPr/>
            <p:nvPr/>
          </p:nvSpPr>
          <p:spPr>
            <a:xfrm>
              <a:off x="3276360" y="2514600"/>
              <a:ext cx="2819520" cy="1600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itle 1"/>
            <p:cNvSpPr/>
            <p:nvPr/>
          </p:nvSpPr>
          <p:spPr>
            <a:xfrm>
              <a:off x="4267080" y="3048120"/>
              <a:ext cx="1523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90000" tIns="50760" bIns="50760" anchor="ctr">
              <a:noAutofit/>
            </a:bodyPr>
            <a:p>
              <a:pPr marL="39600" indent="-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2b5ca9"/>
                  </a:solidFill>
                  <a:latin typeface="Arial"/>
                </a:rPr>
                <a:t>Informed Practic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illiam`s Follow-up</a:t>
            </a:r>
            <a:r>
              <a:rPr b="0" lang="en-CA" sz="4400" spc="-1" strike="noStrike" baseline="-25000">
                <a:solidFill>
                  <a:srgbClr val="2b5ca9"/>
                </a:solidFill>
                <a:latin typeface="Arial"/>
              </a:rPr>
              <a:t> p6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3051-B14C-495E-AAB1-E0FC886FE9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467840" cy="22762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5"/>
          <p:cNvSpPr/>
          <p:nvPr/>
        </p:nvSpPr>
        <p:spPr>
          <a:xfrm>
            <a:off x="609480" y="106668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lliam took 4 marbles out of his desk . He said that even though the marbles were not the same size, one of the marbles was one fourth of his set of four marbles – the shaded portion of the square is one piece out of four pieces , so it is one fourth of the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782040" cy="32241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-76680"/>
            <a:ext cx="6400800" cy="128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ria`s Follow-up </a:t>
            </a:r>
            <a:r>
              <a:rPr b="0" lang="en-CA" sz="4400" spc="-1" strike="noStrike" baseline="-25000">
                <a:solidFill>
                  <a:srgbClr val="2b5ca9"/>
                </a:solidFill>
                <a:latin typeface="Arial"/>
              </a:rPr>
              <a:t>pg 64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09480" y="4343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96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400" spc="-1" strike="noStrike">
                <a:solidFill>
                  <a:srgbClr val="000000"/>
                </a:solidFill>
                <a:latin typeface="Jokerman"/>
              </a:rPr>
              <a:t>No, one fourth is not shaded because Square 1 is not divided into 4 equal parts and Square 2 is divided into 2 unequal parts not 4 part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9636-F0CF-4CF9-9EF1-CA3202D908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tent Placeholder 2"/>
          <p:cNvSpPr/>
          <p:nvPr/>
        </p:nvSpPr>
        <p:spPr>
          <a:xfrm>
            <a:off x="685800" y="1066680"/>
            <a:ext cx="78487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96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rs. Armstrong asked Maria if each of the figures below showed one fourth of the figure sha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lacemat Part 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dd to your group’s placemat any new information you have about Maria or William’s understa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lete the circle in middle: How can this follow-up student work inform teaching/practi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41EA-6F02-46B2-BF7F-AB23108DD8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ion – Your Choic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is your A-HA moment from tod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ord for your treasur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7960" y="12949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ment on the following quo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CA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CA" sz="2600" spc="-1" strike="noStrike">
                <a:solidFill>
                  <a:srgbClr val="000000"/>
                </a:solidFill>
                <a:latin typeface="Arial"/>
              </a:rPr>
              <a:t>A fine glass vase goes from treasure to trash, the moment it is broken. Fortunately, something else happens to you and me. Pick up your pieces. Then, help me gather mine.”  ― Vera Nazarian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90B9-C819-499E-986C-76F390F001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Home 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0948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ble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as many different ways to show one half a geoboard and record each way on the grid square hand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E3A1-A4F9-4D95-84EF-C7F3D28A34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400800" y="4038480"/>
          <a:ext cx="2362320" cy="2233800"/>
        </p:xfrm>
        <a:graphic>
          <a:graphicData uri="http://schemas.openxmlformats.org/drawingml/2006/table">
            <a:tbl>
              <a:tblPr/>
              <a:tblGrid>
                <a:gridCol w="236520"/>
                <a:gridCol w="236520"/>
                <a:gridCol w="235080"/>
                <a:gridCol w="236520"/>
                <a:gridCol w="236520"/>
                <a:gridCol w="236520"/>
                <a:gridCol w="236520"/>
                <a:gridCol w="235080"/>
                <a:gridCol w="236520"/>
                <a:gridCol w="236520"/>
              </a:tblGrid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429000" y="4343400"/>
          <a:ext cx="2362320" cy="2233440"/>
        </p:xfrm>
        <a:graphic>
          <a:graphicData uri="http://schemas.openxmlformats.org/drawingml/2006/table">
            <a:tbl>
              <a:tblPr/>
              <a:tblGrid>
                <a:gridCol w="236520"/>
                <a:gridCol w="236520"/>
                <a:gridCol w="235080"/>
                <a:gridCol w="236520"/>
                <a:gridCol w="236520"/>
                <a:gridCol w="236520"/>
                <a:gridCol w="236520"/>
                <a:gridCol w="235080"/>
                <a:gridCol w="236520"/>
                <a:gridCol w="236520"/>
              </a:tblGrid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172200" y="228600"/>
          <a:ext cx="2362320" cy="2233440"/>
        </p:xfrm>
        <a:graphic>
          <a:graphicData uri="http://schemas.openxmlformats.org/drawingml/2006/table">
            <a:tbl>
              <a:tblPr/>
              <a:tblGrid>
                <a:gridCol w="236520"/>
                <a:gridCol w="236520"/>
                <a:gridCol w="235080"/>
                <a:gridCol w="236520"/>
                <a:gridCol w="236520"/>
                <a:gridCol w="236520"/>
                <a:gridCol w="236520"/>
                <a:gridCol w="235080"/>
                <a:gridCol w="236520"/>
                <a:gridCol w="236520"/>
              </a:tblGrid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800" rIns="558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670572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2b5ca9"/>
                </a:solidFill>
                <a:latin typeface="Arial"/>
              </a:rPr>
              <a:t>Minds on: Inside/Outside Circle</a:t>
            </a:r>
            <a:endParaRPr b="0" lang="en-US" sz="5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07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4 Discuss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87C1-E5F9-4A3F-968A-4EA561C3FB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scussion #1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88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scribe any experience you have had with portfolio assess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65EE-B7C0-4FAA-8426-6993FCD780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396216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scussion #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ne thing from Chris’ presentation that you don’t think would work in K-4? How could this be tweaked for K-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FD24-4D11-4E14-92AF-049408A47D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90360"/>
            <a:ext cx="403884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scussion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one criterion that you would like to see represented in a student portfolio?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E4D7-87F3-42EB-9BED-928C91AB89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scussion #4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n idea about assessment that you would like to learn more ab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1E22-3A5D-438C-97F1-779D2F936E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haring Our Stor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C153-106A-4251-82BA-99C0B7B0EF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C:\Users\Ian\AppData\Local\Microsoft\Windows\Temporary Internet Files\Content.IE5\2E2O71GO\MC900045109[1].wmf"/>
          <p:cNvPicPr/>
          <p:nvPr/>
        </p:nvPicPr>
        <p:blipFill>
          <a:blip r:embed="rId1"/>
          <a:stretch/>
        </p:blipFill>
        <p:spPr>
          <a:xfrm>
            <a:off x="4038480" y="1752480"/>
            <a:ext cx="4148280" cy="38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47560"/>
            <a:ext cx="647712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ction: Myth Bust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1620720" indent="-12682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yth: Fractional parts of a set must look exactly the sa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20720" indent="-1268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C70A-69B0-4763-89E0-A63359BD0D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Sandy DiLena</cp:lastModifiedBy>
  <dcterms:modified xsi:type="dcterms:W3CDTF">2012-07-15T22:52:02Z</dcterms:modified>
  <cp:revision>61</cp:revision>
  <dc:subject/>
  <dc:title>&lt;Title&gt;</dc:title>
</cp:coreProperties>
</file>